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428-AAE7-4226-B190-056230FD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62-3F5F-4DBA-98F8-7893039B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38F-D9C4-447B-9D71-1B1E0539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5CA-2DFB-4709-A735-D8F63081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F84-2497-4175-8C39-2057E159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488-549F-4E05-A7CB-39013BE0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906-3B88-4D6F-B7DC-1EB6BB64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B6D-5534-49EF-9A60-EA2AC24B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B78-303E-4268-8644-1C044809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F1E-DA1A-4144-A45A-6779609F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2F9-0CD2-4FD1-9FEC-91DCD881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89C-862B-4FFF-8EF0-70498D7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2C6B-52AF-4CD9-AD31-49B65B7B75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3d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824040" y="1650960"/>
            <a:ext cx="825804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your favourite molecu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the diagram, connect the sweets or fruits together using the cocktail sti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n RSC helper check your molecule is corr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have a mobile phone, get someone to take a photo of you with your molecu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ec73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5200" y="907920"/>
            <a:ext cx="22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rbit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771560" y="1728720"/>
            <a:ext cx="63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bitol is found in apples and peach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sweetener which can be used as a substitute for sug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2084400" y="9828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1390680" y="2878200"/>
          <a:ext cx="482904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0680" y="2878200"/>
                    <a:ext cx="482904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bec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tamin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600200" y="1771560"/>
            <a:ext cx="653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tamin C is found in fruits such as strawberries and oran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n essential nutrient for a healthy di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Frui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1600200" y="2752560"/>
          <a:ext cx="454824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52560"/>
                    <a:ext cx="454824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7"/>
          <p:cNvSpPr/>
          <p:nvPr/>
        </p:nvSpPr>
        <p:spPr>
          <a:xfrm>
            <a:off x="6867360" y="3627360"/>
            <a:ext cx="2048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da0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892160" y="16146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ucose is found in many sweets and fizzy drink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main source of energy for the body and the bra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233360" y="2863800"/>
          <a:ext cx="4310280" cy="27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3360" y="2863800"/>
                    <a:ext cx="431028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62080" y="6269040"/>
            <a:ext cx="1942920" cy="326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Sweet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898640" y="1652760"/>
            <a:ext cx="61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ctose is found in many sweets and processed foo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sweetest type of natural sugar and is commonly added to food and drink to improve the tas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1062000" y="3014640"/>
          <a:ext cx="46036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3014640"/>
                    <a:ext cx="46036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8"/>
          <p:cNvSpPr/>
          <p:nvPr/>
        </p:nvSpPr>
        <p:spPr>
          <a:xfrm>
            <a:off x="5805360" y="3819600"/>
            <a:ext cx="27464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725d"/>
                </a:solidFill>
                <a:latin typeface="Arial"/>
              </a:rPr>
              <a:t>O =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da0065"/>
                </a:solidFill>
                <a:latin typeface="Arial"/>
              </a:rPr>
              <a:t>H = small gem swee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0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53960" y="98280"/>
            <a:ext cx="71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353960" y="1720800"/>
            <a:ext cx="719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PEED CHALLENGE 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1353960" y="3551400"/>
            <a:ext cx="74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be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s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erson to make this molecule, using fruits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wee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602136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906120" cy="836640"/>
          </a:xfrm>
          <a:prstGeom prst="rect">
            <a:avLst/>
          </a:prstGeom>
          <a:solidFill>
            <a:srgbClr val="691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353960" y="90792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77840" y="1601640"/>
            <a:ext cx="9499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crose is naturally found in fruits such as pineapples and apricots, and is used to make a variety of sweets and desser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he chemical name for table sugar and can be broken down into glucose and fructo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353960" y="98280"/>
            <a:ext cx="71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e a Molecu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white logo clear background_cropped"/>
          <p:cNvPicPr/>
          <p:nvPr/>
        </p:nvPicPr>
        <p:blipFill>
          <a:blip r:embed="rId1"/>
          <a:stretch/>
        </p:blipFill>
        <p:spPr>
          <a:xfrm>
            <a:off x="291960" y="6275520"/>
            <a:ext cx="1943280" cy="326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5803920" y="3741840"/>
            <a:ext cx="41022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691872"/>
                </a:solidFill>
                <a:latin typeface="Arial"/>
              </a:rPr>
              <a:t>C </a:t>
            </a:r>
            <a:r>
              <a:rPr b="1" lang="en-GB" sz="1700" spc="-1" strike="noStrike">
                <a:solidFill>
                  <a:srgbClr val="691872"/>
                </a:solidFill>
                <a:latin typeface="Arial"/>
                <a:ea typeface="Arial"/>
              </a:rPr>
              <a:t>= fig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c7325"/>
                </a:solidFill>
                <a:latin typeface="Arial"/>
              </a:rPr>
              <a:t>O = dried apricot or large gumdrop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H = raisin or small gem swe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582480" y="2851200"/>
          <a:ext cx="5132520" cy="31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2480" y="2851200"/>
                    <a:ext cx="51325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51:31Z</dcterms:created>
  <dc:creator>David Sait</dc:creator>
  <dc:description/>
  <dc:language>en-US</dc:language>
  <cp:lastModifiedBy>Lee Page</cp:lastModifiedBy>
  <cp:lastPrinted>2013-03-13T15:34:27Z</cp:lastPrinted>
  <dcterms:modified xsi:type="dcterms:W3CDTF">2013-06-04T13:39:59Z</dcterms:modified>
  <cp:revision>46</cp:revision>
  <dc:subject/>
  <dc:title>Slide 1</dc:title>
</cp:coreProperties>
</file>